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907588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4BEB-C71D-4886-8A58-4F088FFF0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DFB4-A319-4A7A-84D7-7B7298F0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0110-4763-4514-9F86-3FCBA887C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D1A4-3910-4A84-9DB2-A058B97B3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1502-406E-4048-B1EB-06E69C72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BDDA-AF32-4416-A9FE-F10F7286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FDF7-86A7-4FFA-BCBF-77B95378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1EB5-70D1-4588-80A2-199DAA0C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A743-3464-41CE-9FC7-8E9022E1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64A5-66CD-44CC-B132-73D8A8DB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748C-9C29-4E5F-A75F-51CF27AD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7511-F1DA-4963-9BE6-C6E71E12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D96B-70D9-4A09-A36C-C5A4F5AB2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57240"/>
            <a:ext cx="6781680" cy="9848880"/>
          </a:xfrm>
          <a:prstGeom prst="rect">
            <a:avLst/>
          </a:prstGeom>
          <a:solidFill>
            <a:srgbClr val="111111"/>
          </a:solidFill>
          <a:ln w="7632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79200" y="5262480"/>
            <a:ext cx="501084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 bobine Haute Tension d’allu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6200" y="6634080"/>
            <a:ext cx="64940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Déterminer la courbe de l’intensité primaire,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Démontrer l’importance du temps de rempli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0280" y="6654960"/>
            <a:ext cx="6597720" cy="1739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4080" y="9274320"/>
            <a:ext cx="80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L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8840" y="2260440"/>
            <a:ext cx="5884200" cy="130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ALLUMAG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50760" y="453960"/>
            <a:ext cx="5475600" cy="203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latin typeface="Arial Black"/>
              </a:rPr>
              <a:t>ALLUM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6586560" y="1270080"/>
            <a:ext cx="12600" cy="1260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0"/>
                </a:moveTo>
                <a:lnTo>
                  <a:pt x="0" y="55"/>
                </a:lnTo>
                <a:lnTo>
                  <a:pt x="63" y="2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05520" y="1066680"/>
            <a:ext cx="277920" cy="212760"/>
          </a:xfrm>
          <a:custGeom>
            <a:avLst/>
            <a:gdLst/>
            <a:ahLst/>
            <a:rect l="l" t="t" r="r" b="b"/>
            <a:pathLst>
              <a:path w="1489" h="913">
                <a:moveTo>
                  <a:pt x="0" y="912"/>
                </a:moveTo>
                <a:lnTo>
                  <a:pt x="240" y="864"/>
                </a:lnTo>
                <a:lnTo>
                  <a:pt x="480" y="768"/>
                </a:lnTo>
                <a:lnTo>
                  <a:pt x="528" y="720"/>
                </a:lnTo>
                <a:lnTo>
                  <a:pt x="576" y="672"/>
                </a:lnTo>
                <a:lnTo>
                  <a:pt x="624" y="576"/>
                </a:lnTo>
                <a:lnTo>
                  <a:pt x="720" y="384"/>
                </a:lnTo>
                <a:lnTo>
                  <a:pt x="816" y="144"/>
                </a:lnTo>
                <a:lnTo>
                  <a:pt x="864" y="48"/>
                </a:lnTo>
                <a:lnTo>
                  <a:pt x="912" y="0"/>
                </a:lnTo>
                <a:lnTo>
                  <a:pt x="1008" y="0"/>
                </a:lnTo>
                <a:lnTo>
                  <a:pt x="1056" y="48"/>
                </a:lnTo>
                <a:lnTo>
                  <a:pt x="1104" y="144"/>
                </a:lnTo>
                <a:lnTo>
                  <a:pt x="1488" y="912"/>
                </a:lnTo>
              </a:path>
            </a:pathLst>
          </a:custGeom>
          <a:noFill/>
          <a:ln cap="rnd" w="32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83440" y="1279440"/>
            <a:ext cx="277560" cy="212760"/>
          </a:xfrm>
          <a:custGeom>
            <a:avLst/>
            <a:gdLst/>
            <a:ahLst/>
            <a:rect l="l" t="t" r="r" b="b"/>
            <a:pathLst>
              <a:path w="1489" h="913">
                <a:moveTo>
                  <a:pt x="1488" y="0"/>
                </a:moveTo>
                <a:lnTo>
                  <a:pt x="1248" y="48"/>
                </a:lnTo>
                <a:lnTo>
                  <a:pt x="1008" y="144"/>
                </a:lnTo>
                <a:lnTo>
                  <a:pt x="960" y="192"/>
                </a:lnTo>
                <a:lnTo>
                  <a:pt x="912" y="240"/>
                </a:lnTo>
                <a:lnTo>
                  <a:pt x="864" y="336"/>
                </a:lnTo>
                <a:lnTo>
                  <a:pt x="768" y="528"/>
                </a:lnTo>
                <a:lnTo>
                  <a:pt x="672" y="768"/>
                </a:lnTo>
                <a:lnTo>
                  <a:pt x="624" y="864"/>
                </a:lnTo>
                <a:lnTo>
                  <a:pt x="576" y="912"/>
                </a:lnTo>
                <a:lnTo>
                  <a:pt x="480" y="912"/>
                </a:lnTo>
                <a:lnTo>
                  <a:pt x="432" y="864"/>
                </a:lnTo>
                <a:lnTo>
                  <a:pt x="384" y="768"/>
                </a:lnTo>
                <a:lnTo>
                  <a:pt x="0" y="0"/>
                </a:lnTo>
              </a:path>
            </a:pathLst>
          </a:custGeom>
          <a:noFill/>
          <a:ln cap="rnd" w="32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99040" y="1276200"/>
            <a:ext cx="59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36880" y="1295280"/>
            <a:ext cx="3214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 (s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97600" y="1012680"/>
            <a:ext cx="25200" cy="6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6559200" y="1250640"/>
            <a:ext cx="36360" cy="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559200" y="1271520"/>
            <a:ext cx="42840" cy="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2400" y="1353960"/>
            <a:ext cx="85680" cy="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02440" y="1386000"/>
            <a:ext cx="7452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91280" y="1397160"/>
            <a:ext cx="36360" cy="2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45040" y="1258920"/>
            <a:ext cx="55800" cy="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6002280" y="992160"/>
            <a:ext cx="0" cy="542880"/>
          </a:xfrm>
          <a:prstGeom prst="line">
            <a:avLst/>
          </a:prstGeom>
          <a:ln w="32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33440" y="200160"/>
            <a:ext cx="531360" cy="863640"/>
            <a:chOff x="433440" y="200160"/>
            <a:chExt cx="531360" cy="863640"/>
          </a:xfrm>
        </p:grpSpPr>
        <p:pic>
          <p:nvPicPr>
            <p:cNvPr id="62" name="" descr=""/>
            <p:cNvPicPr/>
            <p:nvPr/>
          </p:nvPicPr>
          <p:blipFill>
            <a:blip r:embed="rId1"/>
            <a:stretch/>
          </p:blipFill>
          <p:spPr>
            <a:xfrm>
              <a:off x="433440" y="200160"/>
              <a:ext cx="26208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85720" y="1024920"/>
              <a:ext cx="375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4280" y="1012320"/>
              <a:ext cx="111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698760" y="926640"/>
              <a:ext cx="62640" cy="85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63200" y="928440"/>
              <a:ext cx="20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19440" y="930600"/>
              <a:ext cx="0" cy="9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909720" y="934200"/>
              <a:ext cx="7560" cy="2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17640" y="934200"/>
              <a:ext cx="9360" cy="2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909720" y="1002600"/>
              <a:ext cx="7560" cy="2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917640" y="1001160"/>
              <a:ext cx="5400" cy="2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854640" y="951120"/>
              <a:ext cx="45720" cy="47880"/>
              <a:chOff x="854640" y="951120"/>
              <a:chExt cx="45720" cy="47880"/>
            </a:xfrm>
          </p:grpSpPr>
          <p:sp>
            <p:nvSpPr>
              <p:cNvPr id="73" name=""/>
              <p:cNvSpPr/>
              <p:nvPr/>
            </p:nvSpPr>
            <p:spPr>
              <a:xfrm>
                <a:off x="854640" y="951480"/>
                <a:ext cx="41760" cy="4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856440" y="951120"/>
                <a:ext cx="43920" cy="4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214880" y="1979640"/>
            <a:ext cx="752400" cy="542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524560" y="2413080"/>
            <a:ext cx="712800" cy="433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290520" y="2075040"/>
            <a:ext cx="584280" cy="799920"/>
          </a:xfrm>
          <a:prstGeom prst="rect">
            <a:avLst/>
          </a:prstGeom>
          <a:ln w="0">
            <a:noFill/>
          </a:ln>
        </p:spPr>
      </p:pic>
      <p:grpSp>
        <p:nvGrpSpPr>
          <p:cNvPr id="78" name=""/>
          <p:cNvGrpSpPr/>
          <p:nvPr/>
        </p:nvGrpSpPr>
        <p:grpSpPr>
          <a:xfrm>
            <a:off x="3108240" y="2274840"/>
            <a:ext cx="503280" cy="778320"/>
            <a:chOff x="3108240" y="2274840"/>
            <a:chExt cx="503280" cy="778320"/>
          </a:xfrm>
        </p:grpSpPr>
        <p:sp>
          <p:nvSpPr>
            <p:cNvPr id="79" name=""/>
            <p:cNvSpPr/>
            <p:nvPr/>
          </p:nvSpPr>
          <p:spPr>
            <a:xfrm>
              <a:off x="3177360" y="2274840"/>
              <a:ext cx="434160" cy="283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3108240" y="2558520"/>
              <a:ext cx="502560" cy="212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24800" y="2741040"/>
              <a:ext cx="353520" cy="312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2" name=""/>
          <p:cNvGraphicFramePr/>
          <p:nvPr/>
        </p:nvGraphicFramePr>
        <p:xfrm>
          <a:off x="260280" y="3873600"/>
          <a:ext cx="6300720" cy="5511600"/>
        </p:xfrm>
        <a:graphic>
          <a:graphicData uri="http://schemas.openxmlformats.org/drawingml/2006/table">
            <a:tbl>
              <a:tblPr/>
              <a:tblGrid>
                <a:gridCol w="792360"/>
                <a:gridCol w="5508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EN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2708280" y="3169080"/>
            <a:ext cx="2305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MM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lumage BEP.ppt</a:t>
            </a: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912960" y="415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a bobine Haute Tens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41360" y="2603520"/>
            <a:ext cx="5040000" cy="4436640"/>
            <a:chOff x="441360" y="2603520"/>
            <a:chExt cx="5040000" cy="443664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2264400" y="3123360"/>
              <a:ext cx="1574280" cy="391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 flipV="1">
              <a:off x="5419800" y="5785200"/>
              <a:ext cx="1800" cy="2880"/>
            </a:xfrm>
            <a:solidFill>
              <a:srgbClr val="ffffff"/>
            </a:solidFill>
            <a:ln w="936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468720" y="3496320"/>
              <a:ext cx="1800" cy="1080"/>
            </a:xfrm>
            <a:solidFill>
              <a:srgbClr val="ffffff"/>
            </a:solidFill>
            <a:ln w="936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70520" y="2603520"/>
              <a:ext cx="1440" cy="2880"/>
            </a:xfrm>
            <a:solidFill>
              <a:srgbClr val="ffffff"/>
            </a:solidFill>
            <a:ln w="936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5432760" y="2612160"/>
              <a:ext cx="1800" cy="1440"/>
            </a:xfrm>
            <a:solidFill>
              <a:srgbClr val="ffffff"/>
            </a:solidFill>
            <a:ln w="936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441360" y="5769360"/>
              <a:ext cx="1800" cy="1080"/>
            </a:xfrm>
            <a:solidFill>
              <a:srgbClr val="ffffff"/>
            </a:solidFill>
            <a:ln w="936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444480" y="3843720"/>
              <a:ext cx="179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479560" y="4575600"/>
              <a:ext cx="1800" cy="2520"/>
            </a:xfrm>
            <a:solidFill>
              <a:srgbClr val="ffffff"/>
            </a:solidFill>
            <a:ln w="936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52080" y="240660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e (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99880" y="245916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mentation (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0240" y="33955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yau de fer do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01320" y="3395520"/>
            <a:ext cx="23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roulement prim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25880" y="449424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roulement second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22640" y="57196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rtie H.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7920" y="564660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rtie H.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2171880"/>
            <a:ext cx="6480360" cy="1871640"/>
          </a:xfrm>
          <a:custGeom>
            <a:avLst/>
            <a:gdLst/>
            <a:ahLst/>
            <a:rect l="l" t="t" r="r" b="b"/>
            <a:pathLst>
              <a:path w="4082" h="1225">
                <a:moveTo>
                  <a:pt x="91" y="227"/>
                </a:moveTo>
                <a:lnTo>
                  <a:pt x="182" y="136"/>
                </a:lnTo>
                <a:lnTo>
                  <a:pt x="454" y="91"/>
                </a:lnTo>
                <a:lnTo>
                  <a:pt x="1452" y="0"/>
                </a:lnTo>
                <a:lnTo>
                  <a:pt x="2087" y="0"/>
                </a:lnTo>
                <a:lnTo>
                  <a:pt x="3266" y="46"/>
                </a:lnTo>
                <a:lnTo>
                  <a:pt x="3674" y="182"/>
                </a:lnTo>
                <a:lnTo>
                  <a:pt x="3992" y="499"/>
                </a:lnTo>
                <a:lnTo>
                  <a:pt x="4082" y="998"/>
                </a:lnTo>
                <a:lnTo>
                  <a:pt x="3810" y="1225"/>
                </a:lnTo>
                <a:lnTo>
                  <a:pt x="2858" y="1225"/>
                </a:lnTo>
                <a:lnTo>
                  <a:pt x="1542" y="1225"/>
                </a:lnTo>
                <a:lnTo>
                  <a:pt x="1270" y="771"/>
                </a:lnTo>
                <a:lnTo>
                  <a:pt x="817" y="681"/>
                </a:lnTo>
                <a:lnTo>
                  <a:pt x="272" y="635"/>
                </a:lnTo>
                <a:lnTo>
                  <a:pt x="45" y="454"/>
                </a:lnTo>
                <a:lnTo>
                  <a:pt x="0" y="318"/>
                </a:lnTo>
                <a:lnTo>
                  <a:pt x="45" y="227"/>
                </a:lnTo>
                <a:lnTo>
                  <a:pt x="136" y="182"/>
                </a:lnTo>
              </a:path>
            </a:pathLst>
          </a:custGeom>
          <a:noFill/>
          <a:ln w="19080">
            <a:solidFill>
              <a:srgbClr val="ff33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88600" y="1857240"/>
            <a:ext cx="34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Les éléments du circuit prim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711520" y="3122640"/>
            <a:ext cx="698400" cy="851040"/>
            <a:chOff x="2711520" y="3122640"/>
            <a:chExt cx="698400" cy="851040"/>
          </a:xfrm>
        </p:grpSpPr>
        <p:sp>
          <p:nvSpPr>
            <p:cNvPr id="104" name=""/>
            <p:cNvSpPr/>
            <p:nvPr/>
          </p:nvSpPr>
          <p:spPr>
            <a:xfrm>
              <a:off x="2873520" y="3144960"/>
              <a:ext cx="536400" cy="828720"/>
            </a:xfrm>
            <a:custGeom>
              <a:avLst/>
              <a:gdLst/>
              <a:ahLst/>
              <a:rect l="l" t="t" r="r" b="b"/>
              <a:pathLst>
                <a:path w="338" h="522">
                  <a:moveTo>
                    <a:pt x="338" y="0"/>
                  </a:moveTo>
                  <a:lnTo>
                    <a:pt x="334" y="462"/>
                  </a:lnTo>
                  <a:lnTo>
                    <a:pt x="326" y="494"/>
                  </a:lnTo>
                  <a:lnTo>
                    <a:pt x="294" y="516"/>
                  </a:lnTo>
                  <a:lnTo>
                    <a:pt x="260" y="514"/>
                  </a:lnTo>
                  <a:lnTo>
                    <a:pt x="226" y="498"/>
                  </a:lnTo>
                  <a:lnTo>
                    <a:pt x="212" y="472"/>
                  </a:lnTo>
                  <a:lnTo>
                    <a:pt x="210" y="436"/>
                  </a:lnTo>
                  <a:lnTo>
                    <a:pt x="222" y="414"/>
                  </a:lnTo>
                  <a:lnTo>
                    <a:pt x="238" y="414"/>
                  </a:lnTo>
                  <a:lnTo>
                    <a:pt x="246" y="442"/>
                  </a:lnTo>
                  <a:lnTo>
                    <a:pt x="232" y="488"/>
                  </a:lnTo>
                  <a:lnTo>
                    <a:pt x="208" y="512"/>
                  </a:lnTo>
                  <a:lnTo>
                    <a:pt x="180" y="514"/>
                  </a:lnTo>
                  <a:lnTo>
                    <a:pt x="154" y="504"/>
                  </a:lnTo>
                  <a:lnTo>
                    <a:pt x="140" y="482"/>
                  </a:lnTo>
                  <a:lnTo>
                    <a:pt x="130" y="448"/>
                  </a:lnTo>
                  <a:lnTo>
                    <a:pt x="134" y="418"/>
                  </a:lnTo>
                  <a:lnTo>
                    <a:pt x="158" y="412"/>
                  </a:lnTo>
                  <a:lnTo>
                    <a:pt x="172" y="430"/>
                  </a:lnTo>
                  <a:lnTo>
                    <a:pt x="170" y="450"/>
                  </a:lnTo>
                  <a:lnTo>
                    <a:pt x="166" y="470"/>
                  </a:lnTo>
                  <a:lnTo>
                    <a:pt x="154" y="496"/>
                  </a:lnTo>
                  <a:lnTo>
                    <a:pt x="132" y="514"/>
                  </a:lnTo>
                  <a:lnTo>
                    <a:pt x="108" y="522"/>
                  </a:lnTo>
                  <a:lnTo>
                    <a:pt x="82" y="508"/>
                  </a:lnTo>
                  <a:lnTo>
                    <a:pt x="66" y="486"/>
                  </a:lnTo>
                  <a:lnTo>
                    <a:pt x="62" y="460"/>
                  </a:lnTo>
                  <a:lnTo>
                    <a:pt x="60" y="432"/>
                  </a:lnTo>
                  <a:lnTo>
                    <a:pt x="72" y="410"/>
                  </a:lnTo>
                  <a:lnTo>
                    <a:pt x="86" y="416"/>
                  </a:lnTo>
                  <a:lnTo>
                    <a:pt x="102" y="440"/>
                  </a:lnTo>
                  <a:lnTo>
                    <a:pt x="100" y="470"/>
                  </a:lnTo>
                  <a:lnTo>
                    <a:pt x="84" y="494"/>
                  </a:lnTo>
                  <a:lnTo>
                    <a:pt x="66" y="508"/>
                  </a:lnTo>
                  <a:lnTo>
                    <a:pt x="44" y="520"/>
                  </a:lnTo>
                  <a:lnTo>
                    <a:pt x="16" y="516"/>
                  </a:lnTo>
                  <a:lnTo>
                    <a:pt x="0" y="502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711520" y="3122640"/>
              <a:ext cx="203040" cy="841320"/>
            </a:xfrm>
            <a:custGeom>
              <a:avLst/>
              <a:gdLst/>
              <a:ahLst/>
              <a:rect l="l" t="t" r="r" b="b"/>
              <a:pathLst>
                <a:path w="128" h="530">
                  <a:moveTo>
                    <a:pt x="100" y="514"/>
                  </a:moveTo>
                  <a:lnTo>
                    <a:pt x="82" y="490"/>
                  </a:lnTo>
                  <a:lnTo>
                    <a:pt x="84" y="448"/>
                  </a:lnTo>
                  <a:lnTo>
                    <a:pt x="92" y="426"/>
                  </a:lnTo>
                  <a:lnTo>
                    <a:pt x="108" y="424"/>
                  </a:lnTo>
                  <a:lnTo>
                    <a:pt x="122" y="440"/>
                  </a:lnTo>
                  <a:lnTo>
                    <a:pt x="128" y="466"/>
                  </a:lnTo>
                  <a:lnTo>
                    <a:pt x="116" y="502"/>
                  </a:lnTo>
                  <a:lnTo>
                    <a:pt x="68" y="530"/>
                  </a:lnTo>
                  <a:lnTo>
                    <a:pt x="34" y="520"/>
                  </a:lnTo>
                  <a:lnTo>
                    <a:pt x="12" y="494"/>
                  </a:lnTo>
                  <a:lnTo>
                    <a:pt x="0" y="466"/>
                  </a:lnTo>
                  <a:lnTo>
                    <a:pt x="2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lumage BEP.ppt</a:t>
            </a: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9" dur="indefinite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0" dur="indefinite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7" dur="indefinite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8" dur="indefinite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7000"/>
                            </p:stCondLst>
                            <p:childTnLst>
                              <p:par>
                                <p:cTn id="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8000"/>
                            </p:stCondLst>
                            <p:childTnLst>
                              <p:par>
                                <p:cTn id="89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indefinite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1" dur="indefinite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2" dur="indefinite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8000"/>
                            </p:stCondLst>
                            <p:childTnLst>
                              <p:par>
                                <p:cTn id="9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65480" y="7300800"/>
            <a:ext cx="1573200" cy="391644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2711520" y="7299360"/>
            <a:ext cx="698400" cy="851040"/>
            <a:chOff x="2711520" y="7299360"/>
            <a:chExt cx="698400" cy="851040"/>
          </a:xfrm>
        </p:grpSpPr>
        <p:sp>
          <p:nvSpPr>
            <p:cNvPr id="108" name=""/>
            <p:cNvSpPr/>
            <p:nvPr/>
          </p:nvSpPr>
          <p:spPr>
            <a:xfrm>
              <a:off x="2873520" y="7321680"/>
              <a:ext cx="536400" cy="828720"/>
            </a:xfrm>
            <a:custGeom>
              <a:avLst/>
              <a:gdLst/>
              <a:ahLst/>
              <a:rect l="l" t="t" r="r" b="b"/>
              <a:pathLst>
                <a:path w="338" h="522">
                  <a:moveTo>
                    <a:pt x="338" y="0"/>
                  </a:moveTo>
                  <a:lnTo>
                    <a:pt x="334" y="462"/>
                  </a:lnTo>
                  <a:lnTo>
                    <a:pt x="326" y="494"/>
                  </a:lnTo>
                  <a:lnTo>
                    <a:pt x="294" y="516"/>
                  </a:lnTo>
                  <a:lnTo>
                    <a:pt x="260" y="514"/>
                  </a:lnTo>
                  <a:lnTo>
                    <a:pt x="226" y="498"/>
                  </a:lnTo>
                  <a:lnTo>
                    <a:pt x="212" y="472"/>
                  </a:lnTo>
                  <a:lnTo>
                    <a:pt x="210" y="436"/>
                  </a:lnTo>
                  <a:lnTo>
                    <a:pt x="222" y="414"/>
                  </a:lnTo>
                  <a:lnTo>
                    <a:pt x="238" y="414"/>
                  </a:lnTo>
                  <a:lnTo>
                    <a:pt x="246" y="442"/>
                  </a:lnTo>
                  <a:lnTo>
                    <a:pt x="232" y="488"/>
                  </a:lnTo>
                  <a:lnTo>
                    <a:pt x="208" y="512"/>
                  </a:lnTo>
                  <a:lnTo>
                    <a:pt x="180" y="514"/>
                  </a:lnTo>
                  <a:lnTo>
                    <a:pt x="154" y="504"/>
                  </a:lnTo>
                  <a:lnTo>
                    <a:pt x="140" y="482"/>
                  </a:lnTo>
                  <a:lnTo>
                    <a:pt x="130" y="448"/>
                  </a:lnTo>
                  <a:lnTo>
                    <a:pt x="134" y="418"/>
                  </a:lnTo>
                  <a:lnTo>
                    <a:pt x="158" y="412"/>
                  </a:lnTo>
                  <a:lnTo>
                    <a:pt x="172" y="430"/>
                  </a:lnTo>
                  <a:lnTo>
                    <a:pt x="170" y="450"/>
                  </a:lnTo>
                  <a:lnTo>
                    <a:pt x="166" y="470"/>
                  </a:lnTo>
                  <a:lnTo>
                    <a:pt x="154" y="496"/>
                  </a:lnTo>
                  <a:lnTo>
                    <a:pt x="132" y="514"/>
                  </a:lnTo>
                  <a:lnTo>
                    <a:pt x="108" y="522"/>
                  </a:lnTo>
                  <a:lnTo>
                    <a:pt x="82" y="508"/>
                  </a:lnTo>
                  <a:lnTo>
                    <a:pt x="66" y="486"/>
                  </a:lnTo>
                  <a:lnTo>
                    <a:pt x="62" y="460"/>
                  </a:lnTo>
                  <a:lnTo>
                    <a:pt x="60" y="432"/>
                  </a:lnTo>
                  <a:lnTo>
                    <a:pt x="72" y="410"/>
                  </a:lnTo>
                  <a:lnTo>
                    <a:pt x="86" y="416"/>
                  </a:lnTo>
                  <a:lnTo>
                    <a:pt x="102" y="440"/>
                  </a:lnTo>
                  <a:lnTo>
                    <a:pt x="100" y="470"/>
                  </a:lnTo>
                  <a:lnTo>
                    <a:pt x="84" y="494"/>
                  </a:lnTo>
                  <a:lnTo>
                    <a:pt x="66" y="508"/>
                  </a:lnTo>
                  <a:lnTo>
                    <a:pt x="44" y="520"/>
                  </a:lnTo>
                  <a:lnTo>
                    <a:pt x="16" y="516"/>
                  </a:lnTo>
                  <a:lnTo>
                    <a:pt x="0" y="50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11520" y="7299360"/>
              <a:ext cx="203040" cy="841320"/>
            </a:xfrm>
            <a:custGeom>
              <a:avLst/>
              <a:gdLst/>
              <a:ahLst/>
              <a:rect l="l" t="t" r="r" b="b"/>
              <a:pathLst>
                <a:path w="128" h="530">
                  <a:moveTo>
                    <a:pt x="100" y="514"/>
                  </a:moveTo>
                  <a:lnTo>
                    <a:pt x="82" y="490"/>
                  </a:lnTo>
                  <a:lnTo>
                    <a:pt x="84" y="448"/>
                  </a:lnTo>
                  <a:lnTo>
                    <a:pt x="92" y="426"/>
                  </a:lnTo>
                  <a:lnTo>
                    <a:pt x="108" y="424"/>
                  </a:lnTo>
                  <a:lnTo>
                    <a:pt x="122" y="440"/>
                  </a:lnTo>
                  <a:lnTo>
                    <a:pt x="128" y="466"/>
                  </a:lnTo>
                  <a:lnTo>
                    <a:pt x="116" y="502"/>
                  </a:lnTo>
                  <a:lnTo>
                    <a:pt x="68" y="530"/>
                  </a:lnTo>
                  <a:lnTo>
                    <a:pt x="34" y="520"/>
                  </a:lnTo>
                  <a:lnTo>
                    <a:pt x="12" y="494"/>
                  </a:lnTo>
                  <a:lnTo>
                    <a:pt x="0" y="466"/>
                  </a:lnTo>
                  <a:lnTo>
                    <a:pt x="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4581360" y="5961240"/>
            <a:ext cx="0" cy="86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89720" y="5961240"/>
            <a:ext cx="0" cy="86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624996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32640" y="624996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24280" y="6392880"/>
            <a:ext cx="8654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34080" y="639288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37000" y="639288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/>
          <p:nvPr/>
        </p:nvCxnSpPr>
        <p:spPr>
          <a:xfrm flipH="1" rot="16200000">
            <a:off x="5733360" y="6536160"/>
            <a:ext cx="792720" cy="505440"/>
          </a:xfrm>
          <a:prstGeom prst="bentConnector3">
            <a:avLst>
              <a:gd name="adj1" fmla="val 363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8" name=""/>
          <p:cNvCxnSpPr>
            <a:stCxn id="116" idx="0"/>
            <a:endCxn id="119" idx="0"/>
          </p:cNvCxnSpPr>
          <p:nvPr/>
        </p:nvCxnSpPr>
        <p:spPr>
          <a:xfrm rot="5400000">
            <a:off x="3609360" y="6201360"/>
            <a:ext cx="646920" cy="1008720"/>
          </a:xfrm>
          <a:prstGeom prst="bentConnector3">
            <a:avLst>
              <a:gd name="adj1" fmla="val 22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 flipV="1">
            <a:off x="3429000" y="70423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708280" y="70423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1936440" y="6392880"/>
            <a:ext cx="26820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1434960" y="6310080"/>
            <a:ext cx="50328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197000" y="63928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04640" y="7184520"/>
            <a:ext cx="649440" cy="145080"/>
            <a:chOff x="404640" y="7184520"/>
            <a:chExt cx="649440" cy="145080"/>
          </a:xfrm>
        </p:grpSpPr>
        <p:grpSp>
          <p:nvGrpSpPr>
            <p:cNvPr id="126" name=""/>
            <p:cNvGrpSpPr/>
            <p:nvPr/>
          </p:nvGrpSpPr>
          <p:grpSpPr>
            <a:xfrm>
              <a:off x="404640" y="7257960"/>
              <a:ext cx="649440" cy="71640"/>
              <a:chOff x="404640" y="7257960"/>
              <a:chExt cx="649440" cy="71640"/>
            </a:xfrm>
          </p:grpSpPr>
          <p:sp>
            <p:nvSpPr>
              <p:cNvPr id="127" name=""/>
              <p:cNvSpPr/>
              <p:nvPr/>
            </p:nvSpPr>
            <p:spPr>
              <a:xfrm flipH="1">
                <a:off x="404640" y="7257960"/>
                <a:ext cx="649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4844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6292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97740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3432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984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0464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 flipV="1">
              <a:off x="765000" y="7184520"/>
              <a:ext cx="0" cy="7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019560" y="7184520"/>
            <a:ext cx="649080" cy="145080"/>
            <a:chOff x="6019560" y="7184520"/>
            <a:chExt cx="649080" cy="145080"/>
          </a:xfrm>
        </p:grpSpPr>
        <p:grpSp>
          <p:nvGrpSpPr>
            <p:cNvPr id="136" name=""/>
            <p:cNvGrpSpPr/>
            <p:nvPr/>
          </p:nvGrpSpPr>
          <p:grpSpPr>
            <a:xfrm>
              <a:off x="6019560" y="7257960"/>
              <a:ext cx="649080" cy="71640"/>
              <a:chOff x="6019560" y="7257960"/>
              <a:chExt cx="649080" cy="71640"/>
            </a:xfrm>
          </p:grpSpPr>
          <p:sp>
            <p:nvSpPr>
              <p:cNvPr id="137" name=""/>
              <p:cNvSpPr/>
              <p:nvPr/>
            </p:nvSpPr>
            <p:spPr>
              <a:xfrm flipH="1">
                <a:off x="6019560" y="7257960"/>
                <a:ext cx="649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36372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47820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59268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24924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13512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01992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 flipV="1">
              <a:off x="6379920" y="7184520"/>
              <a:ext cx="0" cy="7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5" name=""/>
          <p:cNvCxnSpPr>
            <a:stCxn id="121" idx="0"/>
            <a:endCxn id="122" idx="0"/>
          </p:cNvCxnSpPr>
          <p:nvPr/>
        </p:nvCxnSpPr>
        <p:spPr>
          <a:xfrm flipV="1" rot="16200000">
            <a:off x="2151360" y="6471000"/>
            <a:ext cx="612000" cy="501840"/>
          </a:xfrm>
          <a:prstGeom prst="bentConnector3">
            <a:avLst>
              <a:gd name="adj1" fmla="val 10282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46" name=""/>
          <p:cNvCxnSpPr>
            <a:endCxn id="124" idx="0"/>
          </p:cNvCxnSpPr>
          <p:nvPr/>
        </p:nvCxnSpPr>
        <p:spPr>
          <a:xfrm flipH="1" flipV="1" rot="5400000">
            <a:off x="584640" y="6586920"/>
            <a:ext cx="792720" cy="432720"/>
          </a:xfrm>
          <a:prstGeom prst="bentConnector3">
            <a:avLst>
              <a:gd name="adj1" fmla="val 100181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2730600" y="7329600"/>
            <a:ext cx="698400" cy="850320"/>
            <a:chOff x="2730600" y="7329600"/>
            <a:chExt cx="698400" cy="850320"/>
          </a:xfrm>
        </p:grpSpPr>
        <p:sp>
          <p:nvSpPr>
            <p:cNvPr id="148" name=""/>
            <p:cNvSpPr/>
            <p:nvPr/>
          </p:nvSpPr>
          <p:spPr>
            <a:xfrm>
              <a:off x="2892600" y="7351560"/>
              <a:ext cx="536400" cy="828360"/>
            </a:xfrm>
            <a:custGeom>
              <a:avLst/>
              <a:gdLst/>
              <a:ahLst/>
              <a:rect l="l" t="t" r="r" b="b"/>
              <a:pathLst>
                <a:path w="338" h="522">
                  <a:moveTo>
                    <a:pt x="338" y="0"/>
                  </a:moveTo>
                  <a:lnTo>
                    <a:pt x="334" y="462"/>
                  </a:lnTo>
                  <a:lnTo>
                    <a:pt x="326" y="494"/>
                  </a:lnTo>
                  <a:lnTo>
                    <a:pt x="294" y="516"/>
                  </a:lnTo>
                  <a:lnTo>
                    <a:pt x="260" y="514"/>
                  </a:lnTo>
                  <a:lnTo>
                    <a:pt x="226" y="498"/>
                  </a:lnTo>
                  <a:lnTo>
                    <a:pt x="212" y="472"/>
                  </a:lnTo>
                  <a:lnTo>
                    <a:pt x="210" y="436"/>
                  </a:lnTo>
                  <a:lnTo>
                    <a:pt x="222" y="414"/>
                  </a:lnTo>
                  <a:lnTo>
                    <a:pt x="238" y="414"/>
                  </a:lnTo>
                  <a:lnTo>
                    <a:pt x="246" y="442"/>
                  </a:lnTo>
                  <a:lnTo>
                    <a:pt x="232" y="488"/>
                  </a:lnTo>
                  <a:lnTo>
                    <a:pt x="208" y="512"/>
                  </a:lnTo>
                  <a:lnTo>
                    <a:pt x="180" y="514"/>
                  </a:lnTo>
                  <a:lnTo>
                    <a:pt x="154" y="504"/>
                  </a:lnTo>
                  <a:lnTo>
                    <a:pt x="140" y="482"/>
                  </a:lnTo>
                  <a:lnTo>
                    <a:pt x="130" y="448"/>
                  </a:lnTo>
                  <a:lnTo>
                    <a:pt x="134" y="418"/>
                  </a:lnTo>
                  <a:lnTo>
                    <a:pt x="158" y="412"/>
                  </a:lnTo>
                  <a:lnTo>
                    <a:pt x="172" y="430"/>
                  </a:lnTo>
                  <a:lnTo>
                    <a:pt x="170" y="450"/>
                  </a:lnTo>
                  <a:lnTo>
                    <a:pt x="166" y="470"/>
                  </a:lnTo>
                  <a:lnTo>
                    <a:pt x="154" y="496"/>
                  </a:lnTo>
                  <a:lnTo>
                    <a:pt x="132" y="514"/>
                  </a:lnTo>
                  <a:lnTo>
                    <a:pt x="108" y="522"/>
                  </a:lnTo>
                  <a:lnTo>
                    <a:pt x="82" y="508"/>
                  </a:lnTo>
                  <a:lnTo>
                    <a:pt x="66" y="486"/>
                  </a:lnTo>
                  <a:lnTo>
                    <a:pt x="62" y="460"/>
                  </a:lnTo>
                  <a:lnTo>
                    <a:pt x="60" y="432"/>
                  </a:lnTo>
                  <a:lnTo>
                    <a:pt x="72" y="410"/>
                  </a:lnTo>
                  <a:lnTo>
                    <a:pt x="86" y="416"/>
                  </a:lnTo>
                  <a:lnTo>
                    <a:pt x="102" y="440"/>
                  </a:lnTo>
                  <a:lnTo>
                    <a:pt x="100" y="470"/>
                  </a:lnTo>
                  <a:lnTo>
                    <a:pt x="84" y="494"/>
                  </a:lnTo>
                  <a:lnTo>
                    <a:pt x="66" y="508"/>
                  </a:lnTo>
                  <a:lnTo>
                    <a:pt x="44" y="520"/>
                  </a:lnTo>
                  <a:lnTo>
                    <a:pt x="16" y="516"/>
                  </a:lnTo>
                  <a:lnTo>
                    <a:pt x="0" y="502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30600" y="7329600"/>
              <a:ext cx="203040" cy="840960"/>
            </a:xfrm>
            <a:custGeom>
              <a:avLst/>
              <a:gdLst/>
              <a:ahLst/>
              <a:rect l="l" t="t" r="r" b="b"/>
              <a:pathLst>
                <a:path w="128" h="530">
                  <a:moveTo>
                    <a:pt x="100" y="514"/>
                  </a:moveTo>
                  <a:lnTo>
                    <a:pt x="82" y="490"/>
                  </a:lnTo>
                  <a:lnTo>
                    <a:pt x="84" y="448"/>
                  </a:lnTo>
                  <a:lnTo>
                    <a:pt x="92" y="426"/>
                  </a:lnTo>
                  <a:lnTo>
                    <a:pt x="108" y="424"/>
                  </a:lnTo>
                  <a:lnTo>
                    <a:pt x="122" y="440"/>
                  </a:lnTo>
                  <a:lnTo>
                    <a:pt x="128" y="466"/>
                  </a:lnTo>
                  <a:lnTo>
                    <a:pt x="116" y="502"/>
                  </a:lnTo>
                  <a:lnTo>
                    <a:pt x="68" y="530"/>
                  </a:lnTo>
                  <a:lnTo>
                    <a:pt x="34" y="520"/>
                  </a:lnTo>
                  <a:lnTo>
                    <a:pt x="12" y="494"/>
                  </a:lnTo>
                  <a:lnTo>
                    <a:pt x="0" y="466"/>
                  </a:lnTo>
                  <a:lnTo>
                    <a:pt x="2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404640" y="560160"/>
            <a:ext cx="613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ude du courant prim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mage du courant traversant l’enroulement primaire en fonction du te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981000" y="2289240"/>
            <a:ext cx="5608800" cy="1852560"/>
            <a:chOff x="981000" y="2289240"/>
            <a:chExt cx="5608800" cy="1852560"/>
          </a:xfrm>
        </p:grpSpPr>
        <p:sp>
          <p:nvSpPr>
            <p:cNvPr id="152" name=""/>
            <p:cNvSpPr/>
            <p:nvPr/>
          </p:nvSpPr>
          <p:spPr>
            <a:xfrm>
              <a:off x="981000" y="4141800"/>
              <a:ext cx="560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981000" y="2289240"/>
              <a:ext cx="0" cy="18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311560" y="1208160"/>
            <a:ext cx="324612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876320" y="2575080"/>
            <a:ext cx="3228480" cy="31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4663440" y="988200"/>
            <a:ext cx="2349000" cy="317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07" y="79"/>
                </a:moveTo>
                <a:arcTo wR="10800" hR="10800" stAng="-4983073" swAng="4983073"/>
                <a:lnTo>
                  <a:pt x="10800" y="10800"/>
                </a:lnTo>
                <a:close/>
              </a:path>
              <a:path fill="none" w="21600" h="21600">
                <a:moveTo>
                  <a:pt x="12107" y="79"/>
                </a:moveTo>
                <a:arcTo wR="10800" hR="10800" stAng="-4983073" swAng="4983073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43320" y="2575080"/>
            <a:ext cx="13208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76320" y="414972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3360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9360" y="2000160"/>
            <a:ext cx="5634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9440" y="3943440"/>
            <a:ext cx="8859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00400" y="4013280"/>
            <a:ext cx="422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876320" y="2459160"/>
            <a:ext cx="1457280" cy="2073240"/>
            <a:chOff x="1876320" y="2459160"/>
            <a:chExt cx="1457280" cy="2073240"/>
          </a:xfrm>
        </p:grpSpPr>
        <p:sp>
          <p:nvSpPr>
            <p:cNvPr id="164" name=""/>
            <p:cNvSpPr/>
            <p:nvPr/>
          </p:nvSpPr>
          <p:spPr>
            <a:xfrm flipH="1">
              <a:off x="1876320" y="4341960"/>
              <a:ext cx="145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33600" y="2459160"/>
              <a:ext cx="0" cy="2073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33360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4976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55880" y="4013280"/>
            <a:ext cx="486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333600" y="2459160"/>
            <a:ext cx="1316160" cy="2008080"/>
            <a:chOff x="3333600" y="2459160"/>
            <a:chExt cx="1316160" cy="2008080"/>
          </a:xfrm>
        </p:grpSpPr>
        <p:sp>
          <p:nvSpPr>
            <p:cNvPr id="170" name=""/>
            <p:cNvSpPr/>
            <p:nvPr/>
          </p:nvSpPr>
          <p:spPr>
            <a:xfrm flipH="1">
              <a:off x="3333600" y="4341960"/>
              <a:ext cx="131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49760" y="2459160"/>
              <a:ext cx="0" cy="200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876320" y="3436920"/>
            <a:ext cx="0" cy="97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4649400" y="3430440"/>
            <a:ext cx="1033920" cy="911520"/>
            <a:chOff x="4649400" y="3430440"/>
            <a:chExt cx="1033920" cy="911520"/>
          </a:xfrm>
        </p:grpSpPr>
        <p:sp>
          <p:nvSpPr>
            <p:cNvPr id="174" name=""/>
            <p:cNvSpPr/>
            <p:nvPr/>
          </p:nvSpPr>
          <p:spPr>
            <a:xfrm flipV="1">
              <a:off x="5683320" y="3430440"/>
              <a:ext cx="0" cy="906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4649400" y="4341960"/>
              <a:ext cx="10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464976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8332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978440" y="4013280"/>
            <a:ext cx="441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794880" y="2589120"/>
            <a:ext cx="25383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4440" y="2265480"/>
            <a:ext cx="1409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p max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94880" y="2589120"/>
            <a:ext cx="18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70160" y="483408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118800" y="-1533600"/>
                </a:lnTo>
                <a:lnTo>
                  <a:pt x="-118800" y="885600"/>
                </a:lnTo>
                <a:lnTo>
                  <a:pt x="-70116" y="93096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915160" y="487836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109688" y="-1533600"/>
                </a:lnTo>
                <a:lnTo>
                  <a:pt x="-109688" y="993600"/>
                </a:lnTo>
                <a:lnTo>
                  <a:pt x="-67922" y="98064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49160" y="4084560"/>
            <a:ext cx="3286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965320" y="196848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67669" y="-1533600"/>
                </a:lnTo>
                <a:lnTo>
                  <a:pt x="-67669" y="-5076000"/>
                </a:lnTo>
                <a:lnTo>
                  <a:pt x="-37547" y="-125928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73360" y="1784520"/>
            <a:ext cx="12682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empli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197320" y="190188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70875" y="-1533600"/>
                </a:lnTo>
                <a:lnTo>
                  <a:pt x="-70875" y="-4730400"/>
                </a:lnTo>
                <a:lnTo>
                  <a:pt x="-70116" y="-86184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005360" y="1712880"/>
            <a:ext cx="12682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Sat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29360" y="2360520"/>
            <a:ext cx="12682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Dissipation de l’énerg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676760" y="252900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650" y="-1533600"/>
                </a:moveTo>
                <a:lnTo>
                  <a:pt x="88425" y="-1533600"/>
                </a:lnTo>
                <a:lnTo>
                  <a:pt x="88425" y="-2959200"/>
                </a:lnTo>
                <a:lnTo>
                  <a:pt x="29700" y="-11923200"/>
                </a:lnTo>
              </a:path>
              <a:path w="21600" h="21600">
                <a:moveTo>
                  <a:pt x="25650" y="0"/>
                </a:moveTo>
                <a:lnTo>
                  <a:pt x="256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341360" y="4635360"/>
            <a:ext cx="17384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Fermeture du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43480" y="4665600"/>
            <a:ext cx="21603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Ouverture du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66720" y="4102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700280" y="5024520"/>
            <a:ext cx="216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1989000" y="5097600"/>
            <a:ext cx="244800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960000">
                                      <p:cBhvr>
                                        <p:cTn id="11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2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2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3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3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3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4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4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4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4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2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2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2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3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3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3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3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4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4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4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5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04640" y="560160"/>
            <a:ext cx="613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ude du courant prim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mage du courant traversant l’enroulement primaire en fonction du te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981000" y="2289240"/>
            <a:ext cx="5608800" cy="1852560"/>
            <a:chOff x="981000" y="2289240"/>
            <a:chExt cx="5608800" cy="1852560"/>
          </a:xfrm>
        </p:grpSpPr>
        <p:sp>
          <p:nvSpPr>
            <p:cNvPr id="198" name=""/>
            <p:cNvSpPr/>
            <p:nvPr/>
          </p:nvSpPr>
          <p:spPr>
            <a:xfrm>
              <a:off x="981000" y="4141800"/>
              <a:ext cx="560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981000" y="2289240"/>
              <a:ext cx="0" cy="18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2311560" y="1208160"/>
            <a:ext cx="324612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76320" y="2575080"/>
            <a:ext cx="3228480" cy="31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4663440" y="988200"/>
            <a:ext cx="2349000" cy="317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07" y="79"/>
                </a:moveTo>
                <a:arcTo wR="10800" hR="10800" stAng="-4983073" swAng="4983073"/>
                <a:lnTo>
                  <a:pt x="10800" y="10800"/>
                </a:lnTo>
                <a:close/>
              </a:path>
              <a:path fill="none" w="21600" h="21600">
                <a:moveTo>
                  <a:pt x="12107" y="79"/>
                </a:moveTo>
                <a:arcTo wR="10800" hR="10800" stAng="-4983073" swAng="4983073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343320" y="2575080"/>
            <a:ext cx="13208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76320" y="414972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33360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9360" y="2000160"/>
            <a:ext cx="5634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9440" y="3943440"/>
            <a:ext cx="8859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300400" y="4013280"/>
            <a:ext cx="422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876320" y="2459160"/>
            <a:ext cx="1457280" cy="2073240"/>
            <a:chOff x="1876320" y="2459160"/>
            <a:chExt cx="1457280" cy="2073240"/>
          </a:xfrm>
        </p:grpSpPr>
        <p:sp>
          <p:nvSpPr>
            <p:cNvPr id="210" name=""/>
            <p:cNvSpPr/>
            <p:nvPr/>
          </p:nvSpPr>
          <p:spPr>
            <a:xfrm flipH="1">
              <a:off x="1876320" y="4341960"/>
              <a:ext cx="145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333600" y="2459160"/>
              <a:ext cx="0" cy="2073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333360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4976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755880" y="4013280"/>
            <a:ext cx="486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333600" y="2459160"/>
            <a:ext cx="1316160" cy="2008080"/>
            <a:chOff x="3333600" y="2459160"/>
            <a:chExt cx="1316160" cy="2008080"/>
          </a:xfrm>
        </p:grpSpPr>
        <p:sp>
          <p:nvSpPr>
            <p:cNvPr id="216" name=""/>
            <p:cNvSpPr/>
            <p:nvPr/>
          </p:nvSpPr>
          <p:spPr>
            <a:xfrm flipH="1">
              <a:off x="3333600" y="4341960"/>
              <a:ext cx="131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49760" y="2459160"/>
              <a:ext cx="0" cy="200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876320" y="3436920"/>
            <a:ext cx="0" cy="97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649400" y="3430440"/>
            <a:ext cx="1033920" cy="911520"/>
            <a:chOff x="4649400" y="3430440"/>
            <a:chExt cx="1033920" cy="911520"/>
          </a:xfrm>
        </p:grpSpPr>
        <p:sp>
          <p:nvSpPr>
            <p:cNvPr id="220" name=""/>
            <p:cNvSpPr/>
            <p:nvPr/>
          </p:nvSpPr>
          <p:spPr>
            <a:xfrm flipV="1">
              <a:off x="5683320" y="3430440"/>
              <a:ext cx="0" cy="906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4649400" y="4341960"/>
              <a:ext cx="10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64976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68332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78440" y="4013280"/>
            <a:ext cx="441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94880" y="2589120"/>
            <a:ext cx="25383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4440" y="2265480"/>
            <a:ext cx="1409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p max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794880" y="2589120"/>
            <a:ext cx="18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12000" y="4143240"/>
            <a:ext cx="8460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170160" y="483408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118800" y="-1533600"/>
                </a:lnTo>
                <a:lnTo>
                  <a:pt x="-118800" y="885600"/>
                </a:lnTo>
                <a:lnTo>
                  <a:pt x="-70116" y="93096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5915160" y="487836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109688" y="-1533600"/>
                </a:lnTo>
                <a:lnTo>
                  <a:pt x="-109688" y="993600"/>
                </a:lnTo>
                <a:lnTo>
                  <a:pt x="-67922" y="98064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49160" y="4084560"/>
            <a:ext cx="3286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4602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73760" y="5312520"/>
            <a:ext cx="5929560" cy="1883160"/>
            <a:chOff x="473760" y="5312520"/>
            <a:chExt cx="5929560" cy="1883160"/>
          </a:xfrm>
        </p:grpSpPr>
        <p:grpSp>
          <p:nvGrpSpPr>
            <p:cNvPr id="234" name=""/>
            <p:cNvGrpSpPr/>
            <p:nvPr/>
          </p:nvGrpSpPr>
          <p:grpSpPr>
            <a:xfrm>
              <a:off x="473760" y="5312520"/>
              <a:ext cx="5929560" cy="1883160"/>
              <a:chOff x="473760" y="5312520"/>
              <a:chExt cx="5929560" cy="1883160"/>
            </a:xfrm>
          </p:grpSpPr>
          <p:sp>
            <p:nvSpPr>
              <p:cNvPr id="235" name=""/>
              <p:cNvSpPr/>
              <p:nvPr/>
            </p:nvSpPr>
            <p:spPr>
              <a:xfrm>
                <a:off x="486000" y="5312520"/>
                <a:ext cx="540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Arial"/>
                  </a:rPr>
                  <a:t>Ip maxi : __________________________________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13000" y="5726880"/>
                <a:ext cx="53791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 :_______________________________________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13000" y="6087240"/>
                <a:ext cx="53791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 :_______________________________________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73760" y="6437520"/>
                <a:ext cx="5929560" cy="75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</a:t>
                </a:r>
                <a:r>
                  <a:rPr b="0" lang="en-US" sz="2000" spc="-1" strike="noStrike" baseline="-30000">
                    <a:solidFill>
                      <a:srgbClr val="000000"/>
                    </a:solidFill>
                    <a:latin typeface="Arial"/>
                    <a:ea typeface="Times New Roman"/>
                  </a:rPr>
                  <a:t>3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: ______________________________________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______________________________________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836640" y="6608880"/>
              <a:ext cx="141120" cy="582480"/>
            </a:xfrm>
            <a:custGeom>
              <a:avLst/>
              <a:gdLst>
                <a:gd name="textAreaLeft" fmla="*/ 90360 w 141120"/>
                <a:gd name="textAreaRight" fmla="*/ 141480 w 141120"/>
                <a:gd name="textAreaTop" fmla="*/ 15120 h 582480"/>
                <a:gd name="textAreaBottom" fmla="*/ 567360 h 58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6647"/>
                  </a:lnTo>
                  <a:cubicBezTo>
                    <a:pt x="10800" y="7547"/>
                    <a:pt x="5400" y="8447"/>
                    <a:pt x="0" y="8447"/>
                  </a:cubicBezTo>
                  <a:cubicBezTo>
                    <a:pt x="5400" y="8447"/>
                    <a:pt x="10800" y="9347"/>
                    <a:pt x="10800" y="10247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727200" y="7329600"/>
            <a:ext cx="6014880" cy="1740960"/>
            <a:chOff x="727200" y="7329600"/>
            <a:chExt cx="6014880" cy="1740960"/>
          </a:xfrm>
        </p:grpSpPr>
        <p:sp>
          <p:nvSpPr>
            <p:cNvPr id="241" name=""/>
            <p:cNvSpPr/>
            <p:nvPr/>
          </p:nvSpPr>
          <p:spPr>
            <a:xfrm>
              <a:off x="727200" y="7329600"/>
              <a:ext cx="6014880" cy="1740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69040" y="8854560"/>
              <a:ext cx="577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115920" y="7710480"/>
            <a:ext cx="563400" cy="849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965320" y="196848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67669" y="-1533600"/>
                </a:lnTo>
                <a:lnTo>
                  <a:pt x="-67669" y="-5076000"/>
                </a:lnTo>
                <a:lnTo>
                  <a:pt x="-37547" y="-125928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73360" y="1784520"/>
            <a:ext cx="12682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empli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5197320" y="190188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70875" y="-1533600"/>
                </a:lnTo>
                <a:lnTo>
                  <a:pt x="-70875" y="-4730400"/>
                </a:lnTo>
                <a:lnTo>
                  <a:pt x="-70116" y="-86184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005360" y="1712880"/>
            <a:ext cx="12682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Sat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229360" y="2360520"/>
            <a:ext cx="12682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Dissipation de l’énerg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676760" y="252900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650" y="-1533600"/>
                </a:moveTo>
                <a:lnTo>
                  <a:pt x="88425" y="-1533600"/>
                </a:lnTo>
                <a:lnTo>
                  <a:pt x="88425" y="-2959200"/>
                </a:lnTo>
                <a:lnTo>
                  <a:pt x="29700" y="-11923200"/>
                </a:lnTo>
              </a:path>
              <a:path w="21600" h="21600">
                <a:moveTo>
                  <a:pt x="25650" y="0"/>
                </a:moveTo>
                <a:lnTo>
                  <a:pt x="256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341360" y="4635360"/>
            <a:ext cx="17384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Fermeture du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443480" y="4665600"/>
            <a:ext cx="21603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Ouverture du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484280" y="5313240"/>
            <a:ext cx="47926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Intensité maxi dans l’enroulement primaire  (I=U/R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52640" y="5745240"/>
            <a:ext cx="42289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emps de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REMPLISSAGE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bob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52640" y="6105600"/>
            <a:ext cx="49338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emps de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saturation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de la bobine (elle chauff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981000" y="6465960"/>
            <a:ext cx="554508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Dissipation de l’énergie magnétiqu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(le bobinage secondaire subit une variation de champ magnétiqu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2280" y="7329600"/>
            <a:ext cx="6014880" cy="16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Si le laps de temps entre l’ouverture et la fermeture est inférieur au temps de remplissage bobine, celle-ci n’aura pas le temps de se remplir complètement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le courant Ip Maxi ne sera pas attei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fr-FR" sz="1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l’énergie accumulée sera fai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fr-FR" sz="1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l’étincelle au secondaire sera moins importante, voir inexista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84640" y="5745240"/>
            <a:ext cx="720720" cy="287280"/>
          </a:xfrm>
          <a:prstGeom prst="cloudCallout">
            <a:avLst>
              <a:gd name="adj1" fmla="val -15199"/>
              <a:gd name="adj2" fmla="val 682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869000" y="6105600"/>
            <a:ext cx="358560" cy="71280"/>
          </a:xfrm>
          <a:prstGeom prst="cloudCallout">
            <a:avLst>
              <a:gd name="adj1" fmla="val 12833"/>
              <a:gd name="adj2" fmla="val 344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93720" y="4102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lumage BEP.ppt</a:t>
            </a: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000"/>
                            </p:stCondLst>
                            <p:childTnLst>
                              <p:par>
                                <p:cTn id="29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500"/>
                            </p:stCondLst>
                            <p:childTnLst>
                              <p:par>
                                <p:cTn id="30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0"/>
                            </p:stCondLst>
                            <p:childTnLst>
                              <p:par>
                                <p:cTn id="3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5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750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8000"/>
                            </p:stCondLst>
                            <p:childTnLst>
                              <p:par>
                                <p:cTn id="32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85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500"/>
                            </p:stCondLst>
                            <p:childTnLst>
                              <p:par>
                                <p:cTn id="33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500"/>
                            </p:stCondLst>
                            <p:childTnLst>
                              <p:par>
                                <p:cTn id="35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500"/>
                            </p:stCondLst>
                            <p:childTnLst>
                              <p:par>
                                <p:cTn id="3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4000"/>
                            </p:stCondLst>
                            <p:childTnLst>
                              <p:par>
                                <p:cTn id="36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4" dur="2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4000"/>
                            </p:stCondLst>
                            <p:childTnLst>
                              <p:par>
                                <p:cTn id="38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7" dur="2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3000"/>
                            </p:stCondLst>
                            <p:childTnLst>
                              <p:par>
                                <p:cTn id="406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0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500"/>
                            </p:stCondLst>
                            <p:childTnLst>
                              <p:par>
                                <p:cTn id="410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1" dur="3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3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8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3" dur="5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04640" y="834480"/>
            <a:ext cx="613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reteni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981000" y="2289240"/>
            <a:ext cx="5608800" cy="1852560"/>
            <a:chOff x="981000" y="2289240"/>
            <a:chExt cx="5608800" cy="1852560"/>
          </a:xfrm>
        </p:grpSpPr>
        <p:sp>
          <p:nvSpPr>
            <p:cNvPr id="262" name=""/>
            <p:cNvSpPr/>
            <p:nvPr/>
          </p:nvSpPr>
          <p:spPr>
            <a:xfrm>
              <a:off x="981000" y="4141800"/>
              <a:ext cx="560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981000" y="2289240"/>
              <a:ext cx="0" cy="18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2311560" y="1208160"/>
            <a:ext cx="324612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876320" y="988560"/>
            <a:ext cx="5136480" cy="4732560"/>
            <a:chOff x="1876320" y="988560"/>
            <a:chExt cx="5136480" cy="4732560"/>
          </a:xfrm>
        </p:grpSpPr>
        <p:sp>
          <p:nvSpPr>
            <p:cNvPr id="266" name=""/>
            <p:cNvSpPr/>
            <p:nvPr/>
          </p:nvSpPr>
          <p:spPr>
            <a:xfrm flipH="1">
              <a:off x="1876320" y="2575080"/>
              <a:ext cx="3228480" cy="314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 flipV="1">
              <a:off x="4663440" y="988200"/>
              <a:ext cx="2349000" cy="317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07" y="79"/>
                  </a:moveTo>
                  <a:arcTo wR="10800" hR="10800" stAng="-4983073" swAng="4983073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07" y="79"/>
                  </a:moveTo>
                  <a:arcTo wR="10800" hR="10800" stAng="-4983073" swAng="4983073"/>
                </a:path>
              </a:pathLst>
            </a:cu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343320" y="2575080"/>
              <a:ext cx="13208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1876320" y="414972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49360" y="2000160"/>
            <a:ext cx="5634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79440" y="3943440"/>
            <a:ext cx="8859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876320" y="3436920"/>
            <a:ext cx="0" cy="97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794880" y="2589120"/>
            <a:ext cx="25383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14440" y="2265480"/>
            <a:ext cx="1409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p max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794880" y="2589120"/>
            <a:ext cx="18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012000" y="4143240"/>
            <a:ext cx="8460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170160" y="483408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118800" y="-1533600"/>
                </a:lnTo>
                <a:lnTo>
                  <a:pt x="-118800" y="885600"/>
                </a:lnTo>
                <a:lnTo>
                  <a:pt x="-70116" y="93096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915160" y="4879080"/>
            <a:ext cx="406440" cy="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109772" y="-1533600"/>
                </a:lnTo>
                <a:lnTo>
                  <a:pt x="-109772" y="4924800"/>
                </a:lnTo>
                <a:lnTo>
                  <a:pt x="-72816" y="274104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49160" y="4084560"/>
            <a:ext cx="3286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4602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965320" y="196848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67669" y="-1533600"/>
                </a:lnTo>
                <a:lnTo>
                  <a:pt x="-67669" y="-5076000"/>
                </a:lnTo>
                <a:lnTo>
                  <a:pt x="-37547" y="-125928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773360" y="1784520"/>
            <a:ext cx="12682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empli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5197320" y="190188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70875" y="-1533600"/>
                </a:lnTo>
                <a:lnTo>
                  <a:pt x="-70875" y="-4730400"/>
                </a:lnTo>
                <a:lnTo>
                  <a:pt x="-70116" y="-86184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005360" y="1712880"/>
            <a:ext cx="12682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Sat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29360" y="2360520"/>
            <a:ext cx="12682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Dissipation de l’énerg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4676760" y="252900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650" y="-1533600"/>
                </a:moveTo>
                <a:lnTo>
                  <a:pt x="88425" y="-1533600"/>
                </a:lnTo>
                <a:lnTo>
                  <a:pt x="88425" y="-2959200"/>
                </a:lnTo>
                <a:lnTo>
                  <a:pt x="29700" y="-11923200"/>
                </a:lnTo>
              </a:path>
              <a:path w="21600" h="21600">
                <a:moveTo>
                  <a:pt x="25650" y="0"/>
                </a:moveTo>
                <a:lnTo>
                  <a:pt x="256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341360" y="4635360"/>
            <a:ext cx="17384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Fermeture du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443480" y="4665600"/>
            <a:ext cx="21603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Ouverture du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16080" y="6543720"/>
            <a:ext cx="60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le temps de fermeture du circuit primaire est trop cour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63880" y="7832880"/>
            <a:ext cx="500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le temps de fermeture primaire est trop long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98720" y="6962760"/>
            <a:ext cx="55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n risque de ne pas avoir assez d’énergie pour cré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0640" y="8121600"/>
            <a:ext cx="604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n risque de faire trop chauffer la bobine et de la détru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47320" y="8848800"/>
            <a:ext cx="63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systèmes électronique gèrent ce temps, quelques so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fréquences de rotation mote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1920" y="5673600"/>
            <a:ext cx="64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l faut un certain temps pour atteindre l’Intensité primaire max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2280" y="526104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p maxi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89000" y="603252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89000" y="632160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5920" y="732960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5920" y="761688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15920" y="848196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15920" y="876924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92680" y="596124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ans une bob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46240" y="732960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une étincel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00080" y="87480"/>
            <a:ext cx="6858000" cy="9818640"/>
          </a:xfrm>
          <a:prstGeom prst="rect">
            <a:avLst/>
          </a:prstGeom>
          <a:solidFill>
            <a:srgbClr val="111111"/>
          </a:solidFill>
          <a:ln w="7632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60280" y="3687840"/>
            <a:ext cx="655344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500" spc="-1" strike="noStrike" u="sng">
                <a:solidFill>
                  <a:srgbClr val="ffffff"/>
                </a:solidFill>
                <a:uFillTx/>
                <a:latin typeface="Times New Roman"/>
              </a:rPr>
              <a:t>THE END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5360" y="8769240"/>
            <a:ext cx="80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L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15:28:11Z</dcterms:created>
  <dc:creator>Yannick LE HEGARAT</dc:creator>
  <dc:description/>
  <dc:language>en-US</dc:language>
  <cp:lastModifiedBy>Yannick LE HEGARAT</cp:lastModifiedBy>
  <dcterms:modified xsi:type="dcterms:W3CDTF">2003-03-07T13:29:14Z</dcterms:modified>
  <cp:revision>31</cp:revision>
  <dc:subject/>
  <dc:title>Diapositive 1</dc:title>
</cp:coreProperties>
</file>